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BFF-42EC-493D-B53D-194246B6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312-468C-4F70-80A4-F6E599E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FE1-4F5A-4C59-924E-D335C97B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F9C-820D-4C52-BF9C-AB24A70F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8B1-6469-4144-A485-6219605A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91F-612B-4CD9-ADC5-4946B135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447-58BF-4529-A7BB-9499F3A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F1C-5647-49AA-966B-BE290DC2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78D-701A-4A07-B8CA-E8D932C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46F-3309-4C17-8D76-79A102F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422-7E0D-4C6E-B86B-E1D2F44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DEF-D34C-4FF2-B1E1-6C4000F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19E-CA95-45E5-86AE-A43338A5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graphy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: Jennifer Cicc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of Th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ectangle 6" descr=""/>
          <p:cNvPicPr/>
          <p:nvPr/>
        </p:nvPicPr>
        <p:blipFill>
          <a:blip r:embed="rId1"/>
          <a:stretch/>
        </p:blipFill>
        <p:spPr>
          <a:xfrm>
            <a:off x="2006640" y="1981080"/>
            <a:ext cx="528300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y.abou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918240" cy="266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5410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i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ctangle 5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0968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ianweb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Camera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1990440" cy="1905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7692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yfilm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7339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foxx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1:20:05Z</dcterms:created>
  <dc:creator>Michael Cicchini</dc:creator>
  <dc:description/>
  <dc:language>en-US</dc:language>
  <cp:lastModifiedBy>Michael Cicchini</cp:lastModifiedBy>
  <dcterms:modified xsi:type="dcterms:W3CDTF">2010-02-21T01:49:22Z</dcterms:modified>
  <cp:revision>1</cp:revision>
  <dc:subject/>
  <dc:title>Photography Basics</dc:title>
</cp:coreProperties>
</file>